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59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75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20760" y="0"/>
            <a:ext cx="29019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015560" y="759960"/>
            <a:ext cx="4870440" cy="365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1040" y="4641480"/>
            <a:ext cx="501804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28224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20760" y="9282240"/>
            <a:ext cx="29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46B7A4-EA18-485B-9DB5-9B174B60D7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20760" y="9282240"/>
            <a:ext cx="29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79C1E0-AAC2-4157-9212-71B57EED7A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928224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811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20760" y="0"/>
            <a:ext cx="29019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7640" y="4635360"/>
            <a:ext cx="50227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7864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6520" y="1371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786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6520" y="38786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2240" y="13712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7640" y="13712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786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2240" y="38786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7640" y="38786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6520" y="13712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76320"/>
            <a:ext cx="6705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6520" y="13712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786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6520" y="1371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6520" y="38786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6520" y="1371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7864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411480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menubar_inside3" descr="MenuBar"/>
          <p:cNvPicPr/>
          <p:nvPr/>
        </p:nvPicPr>
        <p:blipFill>
          <a:blip r:embed="rId3"/>
          <a:srcRect l="13368" t="2515" r="0" b="82927"/>
          <a:stretch/>
        </p:blipFill>
        <p:spPr>
          <a:xfrm>
            <a:off x="0" y="0"/>
            <a:ext cx="1066680" cy="700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85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Υπ.Ε.Π.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0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954080"/>
            <a:ext cx="49784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Verdana"/>
              </a:rPr>
              <a:t>Η Εκπαίδευσ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655720"/>
            <a:ext cx="8496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Verdana"/>
              </a:rPr>
              <a:t>στην κοινωνία της πληροφορία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573360"/>
            <a:ext cx="62006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Στρατηγική και Δράσει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0"/>
            <a:ext cx="7826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Υπουργείο Εθνικής Παιδείας και Θρησκευμάτ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00200" y="919080"/>
            <a:ext cx="6248520" cy="5786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Δικτυακός Τόπο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 rot="19715400">
            <a:off x="2057400" y="3580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www.sch.g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11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4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ΕΠΙΜΟΡΦΩΣΗ ΕΚΠΑΙΔΕΥΤΙΚΩΝ ΣΤΗΝ ΑΞΙΟΠΟΙΗΣΗ ΤΩΝ Τ.Π.Ε. ΣΤΗΝ ΕΚΠΑΙΔΕΥΣΗ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338200"/>
            <a:ext cx="800100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Το έργο αυτό προβλέπει την επιμόρφωση 76.000 εκπαιδευτικών των ελληνικών δημόσιων σχολείων της πρωτοβάθμιας και δευτεροβάθμιας εκπαίδευσης σε πιστοποιημένα </a:t>
            </a:r>
            <a:r>
              <a:rPr b="0" i="1" lang="el-GR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Κέντρα Στήριξης Επιμόρφωσης (ΚΣΕ),</a:t>
            </a:r>
            <a:r>
              <a:rPr b="0" lang="el-GR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 υπό το συντονισμό και την επίβλεψη σε τοπικό επίπεδο των αντίστοιχων </a:t>
            </a:r>
            <a:r>
              <a:rPr b="0" i="1" lang="el-GR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Επιτροπών Επιμόρφωσης (ΕΕ).</a:t>
            </a:r>
            <a:r>
              <a:rPr b="0" lang="el-GR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 Η πρώτη φάση του έργου υλοποιείται στη διετία 2002-2003.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230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1484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66"/>
                </a:solidFill>
                <a:uFillTx/>
                <a:latin typeface="Times New Roman"/>
              </a:rPr>
              <a:t>Αντικείμενο του έργ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ΔΟΜΕΣ ΤΟΥ ΕΡΓΟΥ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1295280"/>
            <a:ext cx="1523880" cy="6858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990000"/>
              </a:gs>
              <a:gs pos="100000">
                <a:srgbClr val="cc33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cc66"/>
                </a:solidFill>
                <a:latin typeface="Times New Roman"/>
              </a:rPr>
              <a:t>ΥπΕΠ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1600200"/>
            <a:ext cx="1523880" cy="6858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990000"/>
              </a:gs>
              <a:gs pos="100000">
                <a:srgbClr val="cc33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ΚΕΕΤΠ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2276640"/>
            <a:ext cx="4095720" cy="10080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990000"/>
              </a:gs>
              <a:gs pos="100000">
                <a:srgbClr val="cc33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Τεχν. &amp; Επιστ. Σύμβου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(ΕΑΙΤΥ – Π.Ι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3357720"/>
            <a:ext cx="4680000" cy="10080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990000"/>
              </a:gs>
              <a:gs pos="100000">
                <a:srgbClr val="cc33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5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Επιτροπές Επιμόρφ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14560" y="5565600"/>
            <a:ext cx="3673440" cy="11034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990000"/>
              </a:gs>
              <a:gs pos="100000">
                <a:srgbClr val="cc33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16.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Σχολικές Μονάδ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40280" y="5354640"/>
            <a:ext cx="2727360" cy="9540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990000"/>
              </a:gs>
              <a:gs pos="100000">
                <a:srgbClr val="cc33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Επιμορφωτ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4292640"/>
            <a:ext cx="1674720" cy="812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990000"/>
              </a:gs>
              <a:gs pos="100000">
                <a:srgbClr val="cc33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1.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66"/>
                </a:solidFill>
                <a:latin typeface="Times New Roman"/>
              </a:rPr>
              <a:t>Κ.Σ.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1752480"/>
            <a:ext cx="533520" cy="76320"/>
          </a:xfrm>
          <a:prstGeom prst="line">
            <a:avLst/>
          </a:prstGeom>
          <a:ln cap="sq"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2057400"/>
            <a:ext cx="682560" cy="219240"/>
          </a:xfrm>
          <a:prstGeom prst="line">
            <a:avLst/>
          </a:prstGeom>
          <a:ln cap="sq"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24360" y="2819520"/>
            <a:ext cx="799920" cy="465120"/>
          </a:xfrm>
          <a:prstGeom prst="line">
            <a:avLst/>
          </a:prstGeom>
          <a:ln cap="sq"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16360" y="4436640"/>
            <a:ext cx="215640" cy="1079640"/>
          </a:xfrm>
          <a:prstGeom prst="line">
            <a:avLst/>
          </a:prstGeom>
          <a:ln cap="sq"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924000" y="4365720"/>
            <a:ext cx="1655640" cy="1008000"/>
          </a:xfrm>
          <a:prstGeom prst="line">
            <a:avLst/>
          </a:prstGeom>
          <a:ln cap="sq"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508720" y="4292640"/>
            <a:ext cx="1272960" cy="355680"/>
          </a:xfrm>
          <a:prstGeom prst="line">
            <a:avLst/>
          </a:prstGeom>
          <a:ln cap="sq"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700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00"/>
                </a:solidFill>
                <a:latin typeface="Verdana"/>
                <a:ea typeface="Times New Roman"/>
              </a:rPr>
              <a:t> 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Verdana"/>
                <a:ea typeface="Times New Roman"/>
              </a:rPr>
              <a:t> </a:t>
            </a: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Α ΠΕΡΙΟΔΟΣ ΕΠΙΜΟΡΦΩΣΗΣ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Μάρτιος – Ιούλιος 2002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Α’ Περίοδος Επιμόρφωσης – </a:t>
            </a:r>
            <a:r>
              <a:rPr b="0" lang="el-GR" sz="3200" spc="-1" strike="noStrike">
                <a:solidFill>
                  <a:srgbClr val="000066"/>
                </a:solidFill>
                <a:latin typeface="Verdana"/>
              </a:rPr>
              <a:t>Μάρτιος-Ιούλιος 2002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Εφαρμογή σε 18 από τις 58 συνολικά Εκπαιδευτικές περιφέρειε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Οι εκπαιδευτικοί έκαναν 26.630 αιτήσει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Κληρώθηκαν και επιμορφώθηκαν 12.151 εκπαιδευτικοί Α/Βάθμιας και Β/Βάθμιας εκπαίδευση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Α’ ΘΕΣΣΑΛΟΝΙΚΗΣ – </a:t>
            </a:r>
            <a:br>
              <a:rPr sz="3200"/>
            </a:b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Α’ περίοδος επιμόρφωση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31640" y="4005360"/>
            <a:ext cx="633564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7.061 Αιτήσεις εκπαιδευτικώ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πιμορφώθηκαν 1.685 Εκπαιδευτικοί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σε 105 ΚΣ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633840" cy="2568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ΞΑΝΘΗ – Α’ περίοδος επιμόρφωση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8280" y="3997080"/>
            <a:ext cx="65246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780 Αιτήσεις εκπαιδευτικώ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πιμορφώθηκαν 469 Εκπαιδευτικοί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σε 15 ΚΣ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898880" y="1341360"/>
            <a:ext cx="3633840" cy="2568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ΦΘΙΩΤΙΔΑ – Α’ περίοδος επιμόρφωση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8280" y="3997080"/>
            <a:ext cx="65246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1.302 Αιτήσεις εκπαιδευτικώ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πιμορφώθηκαν 676 Εκπαιδευτικοί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σε 31 ΚΣ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98880" y="1268280"/>
            <a:ext cx="3633840" cy="2568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700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00"/>
                </a:solidFill>
                <a:latin typeface="Verdana"/>
                <a:ea typeface="Times New Roman"/>
              </a:rPr>
              <a:t> 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Β’ ΠΕΡΙΟΔΟΣ ΕΠΙΜΟΡΦΩΣΗΣ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Σεπτέμβριος – Νοέμβριος 2002</a:t>
            </a:r>
            <a:r>
              <a:rPr b="1" lang="en-GB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42696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Β’ Περίοδος Επιμόρφωσης – Σεπτέμβριος-Νοέμβριος 2002 (εκτίμηση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96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φαρμογή σε όλες τις Εκπαιδευτικές περιφέρειε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Αναμένονται περίπου 55.000 αιτήσεις εκπαιδευτικώ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Υπολογίζεται ότι θα επιμορφωθούν περίπου 37.000 εκπαιδευτικοί Α/Βάθμιας και Β/Βάθμιας εκπαίδευση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Αναμενόμενη κάλυψη στόχου 65 %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Αναμένεται πως μέχρι το Μάρτη 2003 θα καλυφθεί το 100% του στόχου, δηλ. η επιμόρφωση των 76.000 εκπαιδευτικώ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Εργαστήρια Πληροφορική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880" y="1143000"/>
            <a:ext cx="8456760" cy="5180760"/>
            <a:chOff x="380880" y="1143000"/>
            <a:chExt cx="8456760" cy="5180760"/>
          </a:xfrm>
        </p:grpSpPr>
        <p:grpSp>
          <p:nvGrpSpPr>
            <p:cNvPr id="55" name=""/>
            <p:cNvGrpSpPr/>
            <p:nvPr/>
          </p:nvGrpSpPr>
          <p:grpSpPr>
            <a:xfrm>
              <a:off x="380880" y="1143000"/>
              <a:ext cx="2331360" cy="1139760"/>
              <a:chOff x="380880" y="1143000"/>
              <a:chExt cx="2331360" cy="1139760"/>
            </a:xfrm>
          </p:grpSpPr>
          <p:sp>
            <p:nvSpPr>
              <p:cNvPr id="56" name=""/>
              <p:cNvSpPr/>
              <p:nvPr/>
            </p:nvSpPr>
            <p:spPr>
              <a:xfrm>
                <a:off x="380880" y="1143000"/>
                <a:ext cx="2331360" cy="11397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80880" y="1143000"/>
                <a:ext cx="2330640" cy="1118880"/>
                <a:chOff x="380880" y="1143000"/>
                <a:chExt cx="2330640" cy="11188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00320" y="1153080"/>
                  <a:ext cx="2291400" cy="11088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80880" y="1143000"/>
                  <a:ext cx="2330640" cy="111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" name=""/>
            <p:cNvGrpSpPr/>
            <p:nvPr/>
          </p:nvGrpSpPr>
          <p:grpSpPr>
            <a:xfrm>
              <a:off x="2712960" y="1143000"/>
              <a:ext cx="1459800" cy="1139760"/>
              <a:chOff x="2712960" y="1143000"/>
              <a:chExt cx="1459800" cy="1139760"/>
            </a:xfrm>
          </p:grpSpPr>
          <p:sp>
            <p:nvSpPr>
              <p:cNvPr id="61" name=""/>
              <p:cNvSpPr/>
              <p:nvPr/>
            </p:nvSpPr>
            <p:spPr>
              <a:xfrm>
                <a:off x="2712960" y="1143000"/>
                <a:ext cx="1459800" cy="11397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2712960" y="1143000"/>
                <a:ext cx="1459080" cy="1118880"/>
                <a:chOff x="2712960" y="1143000"/>
                <a:chExt cx="1459080" cy="11188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2732400" y="1153080"/>
                  <a:ext cx="1419840" cy="11088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Αριθ. Σχολείων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712960" y="1143000"/>
                  <a:ext cx="1459080" cy="111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" name=""/>
            <p:cNvGrpSpPr/>
            <p:nvPr/>
          </p:nvGrpSpPr>
          <p:grpSpPr>
            <a:xfrm>
              <a:off x="4173840" y="1143000"/>
              <a:ext cx="1458720" cy="1139760"/>
              <a:chOff x="4173840" y="1143000"/>
              <a:chExt cx="1458720" cy="1139760"/>
            </a:xfrm>
          </p:grpSpPr>
          <p:sp>
            <p:nvSpPr>
              <p:cNvPr id="66" name=""/>
              <p:cNvSpPr/>
              <p:nvPr/>
            </p:nvSpPr>
            <p:spPr>
              <a:xfrm>
                <a:off x="4173840" y="1143000"/>
                <a:ext cx="1458720" cy="11397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4173840" y="1143000"/>
                <a:ext cx="1458000" cy="1118880"/>
                <a:chOff x="4173840" y="1143000"/>
                <a:chExt cx="1458000" cy="11188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193280" y="1153080"/>
                  <a:ext cx="1418760" cy="11088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Αριθ. Μαθητών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173840" y="1143000"/>
                  <a:ext cx="1458000" cy="111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" name=""/>
            <p:cNvGrpSpPr/>
            <p:nvPr/>
          </p:nvGrpSpPr>
          <p:grpSpPr>
            <a:xfrm>
              <a:off x="5633280" y="1143000"/>
              <a:ext cx="1459800" cy="1139760"/>
              <a:chOff x="5633280" y="1143000"/>
              <a:chExt cx="1459800" cy="1139760"/>
            </a:xfrm>
          </p:grpSpPr>
          <p:sp>
            <p:nvSpPr>
              <p:cNvPr id="71" name=""/>
              <p:cNvSpPr/>
              <p:nvPr/>
            </p:nvSpPr>
            <p:spPr>
              <a:xfrm>
                <a:off x="5633280" y="1143000"/>
                <a:ext cx="1459800" cy="11397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5633280" y="1143000"/>
                <a:ext cx="1459080" cy="1118880"/>
                <a:chOff x="5633280" y="1143000"/>
                <a:chExt cx="1459080" cy="1118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52720" y="1153080"/>
                  <a:ext cx="1419840" cy="11088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Αριθ. Εργαστ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633280" y="1143000"/>
                  <a:ext cx="1459080" cy="111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" name=""/>
            <p:cNvGrpSpPr/>
            <p:nvPr/>
          </p:nvGrpSpPr>
          <p:grpSpPr>
            <a:xfrm>
              <a:off x="7094160" y="1143000"/>
              <a:ext cx="1743480" cy="1139760"/>
              <a:chOff x="7094160" y="1143000"/>
              <a:chExt cx="1743480" cy="1139760"/>
            </a:xfrm>
          </p:grpSpPr>
          <p:sp>
            <p:nvSpPr>
              <p:cNvPr id="76" name=""/>
              <p:cNvSpPr/>
              <p:nvPr/>
            </p:nvSpPr>
            <p:spPr>
              <a:xfrm>
                <a:off x="7094160" y="1143000"/>
                <a:ext cx="1743480" cy="11397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7094160" y="1143000"/>
                <a:ext cx="1742760" cy="1118880"/>
                <a:chOff x="7094160" y="1143000"/>
                <a:chExt cx="1742760" cy="11188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7113600" y="1153080"/>
                  <a:ext cx="1703520" cy="11088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Αριθ. Υπολογ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094160" y="1143000"/>
                  <a:ext cx="1742760" cy="111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380880" y="2272680"/>
              <a:ext cx="2331360" cy="766080"/>
              <a:chOff x="380880" y="2272680"/>
              <a:chExt cx="2331360" cy="766080"/>
            </a:xfrm>
          </p:grpSpPr>
          <p:sp>
            <p:nvSpPr>
              <p:cNvPr id="81" name=""/>
              <p:cNvSpPr/>
              <p:nvPr/>
            </p:nvSpPr>
            <p:spPr>
              <a:xfrm>
                <a:off x="400320" y="2282760"/>
                <a:ext cx="229212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Δημοτικά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0880" y="2272680"/>
                <a:ext cx="233136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712960" y="2272680"/>
              <a:ext cx="1459800" cy="766080"/>
              <a:chOff x="2712960" y="2272680"/>
              <a:chExt cx="1459800" cy="766080"/>
            </a:xfrm>
          </p:grpSpPr>
          <p:sp>
            <p:nvSpPr>
              <p:cNvPr id="84" name=""/>
              <p:cNvSpPr/>
              <p:nvPr/>
            </p:nvSpPr>
            <p:spPr>
              <a:xfrm>
                <a:off x="2732400" y="2282760"/>
                <a:ext cx="142056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62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12960" y="2272680"/>
                <a:ext cx="145980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73840" y="2272680"/>
              <a:ext cx="1458720" cy="766080"/>
              <a:chOff x="4173840" y="2272680"/>
              <a:chExt cx="1458720" cy="766080"/>
            </a:xfrm>
          </p:grpSpPr>
          <p:sp>
            <p:nvSpPr>
              <p:cNvPr id="87" name=""/>
              <p:cNvSpPr/>
              <p:nvPr/>
            </p:nvSpPr>
            <p:spPr>
              <a:xfrm>
                <a:off x="4193280" y="2282760"/>
                <a:ext cx="141948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5963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73840" y="2272680"/>
                <a:ext cx="145872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633280" y="2272680"/>
              <a:ext cx="1459800" cy="766080"/>
              <a:chOff x="5633280" y="2272680"/>
              <a:chExt cx="1459800" cy="766080"/>
            </a:xfrm>
          </p:grpSpPr>
          <p:sp>
            <p:nvSpPr>
              <p:cNvPr id="90" name=""/>
              <p:cNvSpPr/>
              <p:nvPr/>
            </p:nvSpPr>
            <p:spPr>
              <a:xfrm>
                <a:off x="5652720" y="2282760"/>
                <a:ext cx="142056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5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33280" y="2272680"/>
                <a:ext cx="145980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094160" y="2272680"/>
              <a:ext cx="1743480" cy="766080"/>
              <a:chOff x="7094160" y="2272680"/>
              <a:chExt cx="1743480" cy="766080"/>
            </a:xfrm>
          </p:grpSpPr>
          <p:sp>
            <p:nvSpPr>
              <p:cNvPr id="93" name=""/>
              <p:cNvSpPr/>
              <p:nvPr/>
            </p:nvSpPr>
            <p:spPr>
              <a:xfrm>
                <a:off x="7113600" y="2282760"/>
                <a:ext cx="170424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101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94160" y="2272680"/>
                <a:ext cx="174348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80880" y="3049920"/>
              <a:ext cx="2331360" cy="766080"/>
              <a:chOff x="380880" y="3049920"/>
              <a:chExt cx="2331360" cy="766080"/>
            </a:xfrm>
          </p:grpSpPr>
          <p:sp>
            <p:nvSpPr>
              <p:cNvPr id="96" name=""/>
              <p:cNvSpPr/>
              <p:nvPr/>
            </p:nvSpPr>
            <p:spPr>
              <a:xfrm>
                <a:off x="400320" y="3060000"/>
                <a:ext cx="229212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Γυμνάσι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0880" y="3049920"/>
                <a:ext cx="233136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712960" y="3049920"/>
              <a:ext cx="1459800" cy="766080"/>
              <a:chOff x="2712960" y="3049920"/>
              <a:chExt cx="1459800" cy="76608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400" y="3060000"/>
                <a:ext cx="142056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18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8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12960" y="3049920"/>
                <a:ext cx="145980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173840" y="3049920"/>
              <a:ext cx="1458720" cy="766080"/>
              <a:chOff x="4173840" y="3049920"/>
              <a:chExt cx="1458720" cy="766080"/>
            </a:xfrm>
          </p:grpSpPr>
          <p:sp>
            <p:nvSpPr>
              <p:cNvPr id="102" name=""/>
              <p:cNvSpPr/>
              <p:nvPr/>
            </p:nvSpPr>
            <p:spPr>
              <a:xfrm>
                <a:off x="4193280" y="3060000"/>
                <a:ext cx="141948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34197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73840" y="3049920"/>
                <a:ext cx="145872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5633280" y="3049920"/>
              <a:ext cx="1459800" cy="766080"/>
              <a:chOff x="5633280" y="3049920"/>
              <a:chExt cx="1459800" cy="766080"/>
            </a:xfrm>
          </p:grpSpPr>
          <p:sp>
            <p:nvSpPr>
              <p:cNvPr id="105" name=""/>
              <p:cNvSpPr/>
              <p:nvPr/>
            </p:nvSpPr>
            <p:spPr>
              <a:xfrm>
                <a:off x="5652720" y="3060000"/>
                <a:ext cx="142056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173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3280" y="3049920"/>
                <a:ext cx="145980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7094160" y="3049920"/>
              <a:ext cx="1743480" cy="766080"/>
              <a:chOff x="7094160" y="3049920"/>
              <a:chExt cx="1743480" cy="766080"/>
            </a:xfrm>
          </p:grpSpPr>
          <p:sp>
            <p:nvSpPr>
              <p:cNvPr id="108" name=""/>
              <p:cNvSpPr/>
              <p:nvPr/>
            </p:nvSpPr>
            <p:spPr>
              <a:xfrm>
                <a:off x="7113600" y="3060000"/>
                <a:ext cx="170424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1947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94160" y="3049920"/>
                <a:ext cx="174348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80880" y="3826800"/>
              <a:ext cx="2331360" cy="766800"/>
              <a:chOff x="380880" y="3826800"/>
              <a:chExt cx="2331360" cy="7668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320" y="3836880"/>
                <a:ext cx="2292120" cy="75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Ενιαία Λύκει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880" y="3826800"/>
                <a:ext cx="233136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712960" y="3826800"/>
              <a:ext cx="1459800" cy="766800"/>
              <a:chOff x="2712960" y="3826800"/>
              <a:chExt cx="1459800" cy="766800"/>
            </a:xfrm>
          </p:grpSpPr>
          <p:sp>
            <p:nvSpPr>
              <p:cNvPr id="114" name=""/>
              <p:cNvSpPr/>
              <p:nvPr/>
            </p:nvSpPr>
            <p:spPr>
              <a:xfrm>
                <a:off x="2732400" y="3836880"/>
                <a:ext cx="1420560" cy="75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110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12960" y="3826800"/>
                <a:ext cx="145980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173840" y="3826800"/>
              <a:ext cx="1458720" cy="766800"/>
              <a:chOff x="4173840" y="3826800"/>
              <a:chExt cx="1458720" cy="766800"/>
            </a:xfrm>
          </p:grpSpPr>
          <p:sp>
            <p:nvSpPr>
              <p:cNvPr id="117" name=""/>
              <p:cNvSpPr/>
              <p:nvPr/>
            </p:nvSpPr>
            <p:spPr>
              <a:xfrm>
                <a:off x="4193280" y="3836880"/>
                <a:ext cx="1419480" cy="75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23087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73840" y="3826800"/>
                <a:ext cx="145872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633280" y="3826800"/>
              <a:ext cx="1459800" cy="766800"/>
              <a:chOff x="5633280" y="3826800"/>
              <a:chExt cx="1459800" cy="766800"/>
            </a:xfrm>
          </p:grpSpPr>
          <p:sp>
            <p:nvSpPr>
              <p:cNvPr id="120" name=""/>
              <p:cNvSpPr/>
              <p:nvPr/>
            </p:nvSpPr>
            <p:spPr>
              <a:xfrm>
                <a:off x="5652720" y="3836880"/>
                <a:ext cx="1420560" cy="75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90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33280" y="3826800"/>
                <a:ext cx="145980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094160" y="3826800"/>
              <a:ext cx="1743480" cy="766800"/>
              <a:chOff x="7094160" y="3826800"/>
              <a:chExt cx="1743480" cy="766800"/>
            </a:xfrm>
          </p:grpSpPr>
          <p:sp>
            <p:nvSpPr>
              <p:cNvPr id="123" name=""/>
              <p:cNvSpPr/>
              <p:nvPr/>
            </p:nvSpPr>
            <p:spPr>
              <a:xfrm>
                <a:off x="7113600" y="3836880"/>
                <a:ext cx="1704240" cy="75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1315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4160" y="3826800"/>
                <a:ext cx="17434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80880" y="4604040"/>
              <a:ext cx="2331360" cy="766080"/>
              <a:chOff x="380880" y="4604040"/>
              <a:chExt cx="2331360" cy="766080"/>
            </a:xfrm>
          </p:grpSpPr>
          <p:sp>
            <p:nvSpPr>
              <p:cNvPr id="126" name=""/>
              <p:cNvSpPr/>
              <p:nvPr/>
            </p:nvSpPr>
            <p:spPr>
              <a:xfrm>
                <a:off x="400320" y="4614120"/>
                <a:ext cx="229212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TE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0880" y="4604040"/>
                <a:ext cx="233136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712960" y="4604040"/>
              <a:ext cx="1459800" cy="766080"/>
              <a:chOff x="2712960" y="4604040"/>
              <a:chExt cx="1459800" cy="766080"/>
            </a:xfrm>
          </p:grpSpPr>
          <p:sp>
            <p:nvSpPr>
              <p:cNvPr id="129" name=""/>
              <p:cNvSpPr/>
              <p:nvPr/>
            </p:nvSpPr>
            <p:spPr>
              <a:xfrm>
                <a:off x="2732400" y="4614120"/>
                <a:ext cx="142056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47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12960" y="4604040"/>
                <a:ext cx="145980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173840" y="4604040"/>
              <a:ext cx="1458720" cy="766080"/>
              <a:chOff x="4173840" y="4604040"/>
              <a:chExt cx="1458720" cy="766080"/>
            </a:xfrm>
          </p:grpSpPr>
          <p:sp>
            <p:nvSpPr>
              <p:cNvPr id="132" name=""/>
              <p:cNvSpPr/>
              <p:nvPr/>
            </p:nvSpPr>
            <p:spPr>
              <a:xfrm>
                <a:off x="4193280" y="4614120"/>
                <a:ext cx="141948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1265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73840" y="4604040"/>
                <a:ext cx="145872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633280" y="4604040"/>
              <a:ext cx="1459800" cy="766080"/>
              <a:chOff x="5633280" y="4604040"/>
              <a:chExt cx="1459800" cy="766080"/>
            </a:xfrm>
          </p:grpSpPr>
          <p:sp>
            <p:nvSpPr>
              <p:cNvPr id="135" name=""/>
              <p:cNvSpPr/>
              <p:nvPr/>
            </p:nvSpPr>
            <p:spPr>
              <a:xfrm>
                <a:off x="5652720" y="4614120"/>
                <a:ext cx="142056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44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3280" y="4604040"/>
                <a:ext cx="145980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094160" y="4604040"/>
              <a:ext cx="1743480" cy="766080"/>
              <a:chOff x="7094160" y="4604040"/>
              <a:chExt cx="1743480" cy="766080"/>
            </a:xfrm>
          </p:grpSpPr>
          <p:sp>
            <p:nvSpPr>
              <p:cNvPr id="138" name=""/>
              <p:cNvSpPr/>
              <p:nvPr/>
            </p:nvSpPr>
            <p:spPr>
              <a:xfrm>
                <a:off x="7113600" y="4614120"/>
                <a:ext cx="1704240" cy="75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62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94160" y="4604040"/>
                <a:ext cx="1743480" cy="76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80880" y="5381280"/>
              <a:ext cx="2331360" cy="942480"/>
              <a:chOff x="380880" y="5381280"/>
              <a:chExt cx="2331360" cy="942480"/>
            </a:xfrm>
          </p:grpSpPr>
          <p:sp>
            <p:nvSpPr>
              <p:cNvPr id="141" name=""/>
              <p:cNvSpPr/>
              <p:nvPr/>
            </p:nvSpPr>
            <p:spPr>
              <a:xfrm>
                <a:off x="400320" y="5391360"/>
                <a:ext cx="2292120" cy="9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Σύνολ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0880" y="5381280"/>
                <a:ext cx="2331360" cy="94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712960" y="5381280"/>
              <a:ext cx="1459800" cy="942480"/>
              <a:chOff x="2712960" y="5381280"/>
              <a:chExt cx="1459800" cy="942480"/>
            </a:xfrm>
          </p:grpSpPr>
          <p:sp>
            <p:nvSpPr>
              <p:cNvPr id="144" name=""/>
              <p:cNvSpPr/>
              <p:nvPr/>
            </p:nvSpPr>
            <p:spPr>
              <a:xfrm>
                <a:off x="2732400" y="5391360"/>
                <a:ext cx="1420560" cy="9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9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66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12960" y="5381280"/>
                <a:ext cx="1459800" cy="94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73840" y="5381280"/>
              <a:ext cx="1458720" cy="942480"/>
              <a:chOff x="4173840" y="5381280"/>
              <a:chExt cx="1458720" cy="942480"/>
            </a:xfrm>
          </p:grpSpPr>
          <p:sp>
            <p:nvSpPr>
              <p:cNvPr id="147" name=""/>
              <p:cNvSpPr/>
              <p:nvPr/>
            </p:nvSpPr>
            <p:spPr>
              <a:xfrm>
                <a:off x="4193280" y="5391360"/>
                <a:ext cx="1419480" cy="9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129566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73840" y="5381280"/>
                <a:ext cx="1458720" cy="94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633280" y="5381280"/>
              <a:ext cx="1459800" cy="942480"/>
              <a:chOff x="5633280" y="5381280"/>
              <a:chExt cx="1459800" cy="942480"/>
            </a:xfrm>
          </p:grpSpPr>
          <p:sp>
            <p:nvSpPr>
              <p:cNvPr id="150" name=""/>
              <p:cNvSpPr/>
              <p:nvPr/>
            </p:nvSpPr>
            <p:spPr>
              <a:xfrm>
                <a:off x="5652720" y="5391360"/>
                <a:ext cx="1420560" cy="9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313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33280" y="5381280"/>
                <a:ext cx="1459800" cy="94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094160" y="5381280"/>
              <a:ext cx="1743480" cy="942480"/>
              <a:chOff x="7094160" y="5381280"/>
              <a:chExt cx="1743480" cy="942480"/>
            </a:xfrm>
          </p:grpSpPr>
          <p:sp>
            <p:nvSpPr>
              <p:cNvPr id="153" name=""/>
              <p:cNvSpPr/>
              <p:nvPr/>
            </p:nvSpPr>
            <p:spPr>
              <a:xfrm>
                <a:off x="7113600" y="5391360"/>
                <a:ext cx="1704240" cy="9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3988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94160" y="5381280"/>
                <a:ext cx="1743480" cy="94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Τάσεις - Ανάγκε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Διαγνωσμένες Τάσεις:</a:t>
            </a: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 Έντονη Πίεση και Προσμονή για την κάλυψη των αναγκών επιμόρφωσης και του υπολοίπου πληθυσμού εκπαιδευτικών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Διαγνωσμένη Ανάγκη:</a:t>
            </a: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 Η διενέργεια προγράμματος επιμόρφωσης δευτέρου επιπέδου εξειδίκευσης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Μαθητές/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PC </a:t>
            </a: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στην δευτεροβάθμια εκπαίδευση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0527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663480"/>
          <a:ext cx="8142120" cy="59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63480"/>
                    <a:ext cx="8142120" cy="59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Μαθητές/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PC </a:t>
            </a: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στην πρωτοβάθμια εκπαίδευση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395360"/>
          <a:ext cx="770256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95360"/>
                    <a:ext cx="770256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Πανελλήνιο Σχολικό Δίκτυο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990720"/>
            <a:ext cx="6476040" cy="5714280"/>
            <a:chOff x="1447920" y="990720"/>
            <a:chExt cx="6476040" cy="5714280"/>
          </a:xfrm>
        </p:grpSpPr>
        <p:grpSp>
          <p:nvGrpSpPr>
            <p:cNvPr id="164" name=""/>
            <p:cNvGrpSpPr/>
            <p:nvPr/>
          </p:nvGrpSpPr>
          <p:grpSpPr>
            <a:xfrm>
              <a:off x="1447920" y="990720"/>
              <a:ext cx="6476040" cy="5714280"/>
              <a:chOff x="1447920" y="990720"/>
              <a:chExt cx="6476040" cy="57142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1447920" y="990720"/>
                <a:ext cx="6476040" cy="5714280"/>
                <a:chOff x="1447920" y="990720"/>
                <a:chExt cx="6476040" cy="5714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447920" y="990720"/>
                  <a:ext cx="6476040" cy="5714280"/>
                </a:xfrm>
                <a:prstGeom prst="rect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7" name="" descr=""/>
                <p:cNvPicPr/>
                <p:nvPr/>
              </p:nvPicPr>
              <p:blipFill>
                <a:blip r:embed="rId2"/>
                <a:srcRect l="37841" t="5709" r="-605" b="5256"/>
                <a:stretch/>
              </p:blipFill>
              <p:spPr>
                <a:xfrm>
                  <a:off x="1873800" y="990720"/>
                  <a:ext cx="5689800" cy="555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68" name="" descr=""/>
              <p:cNvPicPr/>
              <p:nvPr/>
            </p:nvPicPr>
            <p:blipFill>
              <a:blip r:embed="rId3"/>
              <a:srcRect l="0" t="86476" r="71888" b="0"/>
              <a:stretch/>
            </p:blipFill>
            <p:spPr>
              <a:xfrm>
                <a:off x="1703520" y="5688000"/>
                <a:ext cx="2727000" cy="90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9" name="" descr="Greek Research &amp; Technology Network"/>
            <p:cNvPicPr/>
            <p:nvPr/>
          </p:nvPicPr>
          <p:blipFill>
            <a:blip r:embed="rId4"/>
            <a:stretch/>
          </p:blipFill>
          <p:spPr>
            <a:xfrm>
              <a:off x="2133720" y="5762520"/>
              <a:ext cx="2209680" cy="40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003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educhart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443640" cy="5722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71600" y="-763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Τρόποι Σύνδεσης Σχολείω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Impact"/>
              </a:rPr>
              <a:t>Sch.g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Σχολικ</a:t>
            </a: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ό</a:t>
            </a: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 Εργαστ</a:t>
            </a: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ήριο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5" name="mnistires" descr=""/>
          <p:cNvPicPr/>
          <p:nvPr/>
        </p:nvPicPr>
        <p:blipFill>
          <a:blip r:embed="rId1"/>
          <a:stretch/>
        </p:blipFill>
        <p:spPr>
          <a:xfrm>
            <a:off x="228600" y="3409920"/>
            <a:ext cx="419112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6" name=""/>
          <p:cNvGrpSpPr/>
          <p:nvPr/>
        </p:nvGrpSpPr>
        <p:grpSpPr>
          <a:xfrm>
            <a:off x="2362320" y="1143000"/>
            <a:ext cx="6705360" cy="3886200"/>
            <a:chOff x="2362320" y="1143000"/>
            <a:chExt cx="6705360" cy="3886200"/>
          </a:xfrm>
        </p:grpSpPr>
        <p:sp>
          <p:nvSpPr>
            <p:cNvPr id="177" name=""/>
            <p:cNvSpPr/>
            <p:nvPr/>
          </p:nvSpPr>
          <p:spPr>
            <a:xfrm>
              <a:off x="3587760" y="2462040"/>
              <a:ext cx="257040" cy="733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3844800" y="1876320"/>
              <a:ext cx="522288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670280" y="2828880"/>
              <a:ext cx="3753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6281640" y="3489480"/>
              <a:ext cx="59400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392800" y="3343320"/>
              <a:ext cx="72216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8151840" y="3489480"/>
              <a:ext cx="593640" cy="6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780160" y="2828880"/>
              <a:ext cx="0" cy="514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53080" y="2828880"/>
              <a:ext cx="0" cy="660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3280" y="2828880"/>
              <a:ext cx="0" cy="660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70280" y="2828880"/>
              <a:ext cx="0" cy="881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>
              <a:off x="2362320" y="1143000"/>
              <a:ext cx="209232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556000" y="1538280"/>
              <a:ext cx="180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66"/>
                  </a:solidFill>
                  <a:latin typeface="Verdana"/>
                </a:rPr>
                <a:t>Νομαρχιακός Κόμβο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73680" y="2903400"/>
              <a:ext cx="452160" cy="879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4800" y="2903400"/>
              <a:ext cx="128880" cy="292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4348080" y="3710160"/>
              <a:ext cx="60192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638680" y="2133720"/>
              <a:ext cx="23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66"/>
                  </a:solidFill>
                  <a:latin typeface="Verdana"/>
                </a:rPr>
                <a:t>Σχολικό Εργαστήρι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62640" y="3855960"/>
              <a:ext cx="63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56320" y="3855960"/>
              <a:ext cx="63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48560" y="3855960"/>
              <a:ext cx="651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32160" y="4002120"/>
              <a:ext cx="109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66"/>
                  </a:solidFill>
                  <a:latin typeface="Verdana"/>
                </a:rPr>
                <a:t>CISCO 160x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70600" y="4222800"/>
              <a:ext cx="1288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Verdana"/>
                </a:rPr>
                <a:t>WINDOWS NT</a:t>
              </a:r>
              <a:r>
                <a:rPr b="1" lang="el-GR" sz="1000" spc="-1" strike="noStrike">
                  <a:solidFill>
                    <a:srgbClr val="000066"/>
                  </a:solidFill>
                  <a:latin typeface="Verdana"/>
                </a:rPr>
                <a:t>, 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0840" y="2819520"/>
              <a:ext cx="116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66"/>
                  </a:solidFill>
                  <a:latin typeface="Verdana"/>
                </a:rPr>
                <a:t>128 </a:t>
              </a:r>
              <a:r>
                <a:rPr b="1" lang="en-US" sz="1400" spc="-1" strike="noStrike">
                  <a:solidFill>
                    <a:srgbClr val="000066"/>
                  </a:solidFill>
                  <a:latin typeface="Verdana"/>
                </a:rPr>
                <a:t>k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5720" y="419112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Windows </a:t>
              </a:r>
              <a:r>
                <a:rPr b="1" lang="el-GR" sz="1200" spc="-1" strike="noStrike">
                  <a:solidFill>
                    <a:srgbClr val="000066"/>
                  </a:solidFill>
                  <a:latin typeface="Verdana"/>
                </a:rPr>
                <a:t>’98</a:t>
              </a: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, 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620120" y="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Impact"/>
              </a:rPr>
              <a:t>Sch.g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Πρόοδος δικτύωσης </a:t>
            </a:r>
            <a:br>
              <a:rPr sz="2800"/>
            </a:b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σχολικών μονάδων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11280" y="1341360"/>
          <a:ext cx="787248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78724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Υποστήριξη Χρηστών (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elpDesk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Υ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ποστ</a:t>
            </a: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ηρίζονται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Όλες οι μονάδες Β’θμιας Εκπ/σης (3.667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Όλες οι μονάδες Α’θμιας Εκπ/σης με σύνδεση στο Π.Σ.Δ. (1.059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Μεμονωμένοι χρήστες (κυρίως επιμορφωτές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Τρόπος παροχής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Τηλεφωνικά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0801-11-801-81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Με τ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εχνικ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ά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 εγχειρ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ίδια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Με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AQs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στη διεύθυνση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Verdana"/>
              </a:rPr>
              <a:t>www.sch.gr/usesrsuppor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Ωράριο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9.00 – 19.00 τις εργάσιμες ημέρε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18335" t="0" r="65000" b="0"/>
          <a:stretch/>
        </p:blipFill>
        <p:spPr>
          <a:xfrm>
            <a:off x="0" y="2019240"/>
            <a:ext cx="1523880" cy="30099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8:46:43Z</dcterms:created>
  <dc:creator>Michael Paraskevas</dc:creator>
  <dc:description/>
  <dc:language>en-US</dc:language>
  <cp:lastModifiedBy>Michael Paraskevas</cp:lastModifiedBy>
  <dcterms:modified xsi:type="dcterms:W3CDTF">2002-06-27T10:03:06Z</dcterms:modified>
  <cp:revision>114</cp:revision>
  <dc:subject/>
  <dc:title>PowerPoint Presentation</dc:title>
</cp:coreProperties>
</file>